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6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567C-6E72-4D8C-A842-DE1D2C6F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A274-0242-4327-BF6F-BDF76373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B6440-E6D1-4A1B-BF66-6FD024F7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058E9-58DD-4F2C-8858-0FA1C52D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989C9-3D3F-4711-8CC7-CFC1797B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88C11-FA9D-4CBB-8ECC-F5116BA5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E0D1A-9DE4-4292-A0E8-E67E1AA5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CE28F-E18B-4F84-9666-852FDF55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FF2CF-F757-46C9-83D4-934EC1BA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788A3-C076-45C3-BB84-F370618E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4455E-27DD-485C-BCD7-3396ADB2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AAF23-8406-4F1E-BCBB-0336D05F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C2F-BC1D-4333-87AB-8619D22A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88740-CEF5-46D3-92C0-D6DDD240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2A5D0-573A-413A-A509-324C822B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D4194-BBE6-42AE-A6D7-E28000D1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63248-5F2E-4DAF-90F6-DDFA4D55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90407-65A0-48C2-B291-F607BCAC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FF804-9056-4C28-9026-A4BA7433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42928-03DF-472B-97A9-6714B9BF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439D8-F087-467F-8822-A92ECE57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9E7C1-0BC6-48F2-8E05-ABBBD50C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86571-8325-46C6-AF94-FB1FAE76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7E26-1EA7-403D-AD17-8FA0027C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167A2-4A16-4301-A24D-4A6CF75C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74E71-C3D7-4A46-B82B-BCE2F9BF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62D88-71B1-40CC-BADB-7A392A3D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B7FD5-5609-4DD0-BAD6-B945084C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9E2F2-56D7-4D4E-AC37-519D120C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FDF85-5138-4EB8-BB2C-81C7BAFE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CA640-B65A-4AF5-8DB2-FEEDA383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5C282-8569-4F65-9629-549E44FE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B2724-D59F-4FA0-88CA-738FB608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FC51B-95E1-4DAF-93CB-44094D84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F5E2-E418-41D9-8334-38604999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9DE80-57F3-4587-A2BF-F90888FD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DE06C-E444-4B99-8EEE-932CA788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E8CE4-1376-4CEC-A0DB-5273A290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DF556-170D-4277-89A3-049DAC39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34224-4348-4FD2-B7DC-90B67717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53565-2F57-43AE-ABBB-71AC15FB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1F3F3-6EC5-41B2-A4E9-8B3A73B3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EB053-F9AC-43F5-8D39-C4DC5E28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8569E-A97D-4CA7-B3B5-FEB41F73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CBF1E-52B1-4B9E-9057-C46DE91B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B2F1-3B75-4803-AB8D-9108254E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CB6AC-144B-4DA4-9D69-C1DC032D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43FBF-E75C-4A39-A414-041AA486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E3339-A933-4B45-81B3-C52C4FC7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A28E4-C081-4F82-B7F9-DEDCF22F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21D87-7354-47F9-ACDD-5BBD5664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693D3-CD00-4A5C-9CD8-F689F23F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C3905-254D-4F8F-8C81-14CFD66E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B6B837-7A51-4223-BA0F-C8662643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B2740E-5BC8-4970-8C03-1AA597EB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6BE7A-2689-4521-ABBF-4670897C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CB95-8941-4D03-8F38-7C4EE0A1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C30246-CB5E-4F5B-B3A8-5AB07740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F2142B-8546-42BC-8202-D773C3F0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CE3DE-A7DD-40FF-8073-12BFD561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EF088-6BD9-4128-8EC2-BD1EBCD8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D5A4B-1350-4AC6-8AE0-57D7C1AD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D99C1-6C58-408E-9327-1B7ABE2B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6906D-0EA8-4072-B244-594FCF28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72CC2D-B113-424A-9DE1-6F860821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78984A-B74B-4662-9B5B-7866E0F7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03FD32-6A5B-4C2E-B554-666C1CDA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266C-D685-4C03-9FA5-AA4C059F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5A4DD9-5373-4524-9E5A-21D30D2A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E1ACE6-7F92-4396-BAED-25772C25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14145-89B8-4F31-9B10-4BB9F9AB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1E1984-8EC8-42F2-BB89-0F421243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0EBBC5-A533-47CE-907F-A9129D90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50C2C5-6F1D-4A90-9001-26976B7D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1F1632-F452-49B3-AA20-E6F4F5F9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37D61B-DA3C-4963-B3AC-C5C78296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152710-88B2-43B2-8233-E4CACD54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A661A5-0877-4332-8B8A-B8476FD9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17A2-414F-4C44-A985-0D53538A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54F95A-5278-43EB-B571-9DCDC746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5F138C-243C-4C5F-98CF-F982CEE5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6D454C-8186-49B6-99C4-C877C1CB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DCA3F4-879D-4494-BA3B-8BC1ECDE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7B55F8-A99C-4014-8C1E-DABB5F5B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ED627C-C7BC-4D5D-B786-91D32BD9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61D3D-90BB-4AE2-995A-1B561721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A5D246-399F-47B7-BA9B-8D2759D3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E4F5BB-3B5D-4528-A69F-8303DF8A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AC9346-F1B1-4D9D-AD2C-130E7CDD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B268-A3C4-4291-963E-12068F1F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B005A1-78A2-48D3-8F85-20752BBD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9E296A-2D41-49D7-A538-899B5322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C63A73-CB8B-4683-A839-8747FCC8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8801F0-B209-43A1-9744-BC1A25E9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64C0CD-356B-4A7B-9B3F-B1B11909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B0F26B-E6E2-42FD-A340-6AC35D15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B054FA-860F-4A41-B945-9499431A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F57A8E-4705-4037-A479-8CED3972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6CE144-A305-4230-A1D4-7629CCDA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E13FD6-9F06-4E12-99C0-EE75CD56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1259-3E78-44D3-97B8-B8F5FC9C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584384-1D9B-4509-A468-65520E02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597DC7-4040-4D87-B2B0-969558AB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229B99-CF8B-49EC-A6EE-EBF697A2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5D7-2266-426E-BE06-47529C5E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7F38-6187-432B-8E1E-8631A73A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3A60-024D-4127-A2A5-AE2875C8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E01C-9E48-401B-90A7-62B7B793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CA01-9871-48B3-82B3-DC101A9B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7EEB-0B10-475F-A284-9C369A17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AF5CF-AC7C-4473-8D00-15760175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B0B1E-AA67-480F-9056-ADF946CC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FEEE7-999F-4247-B30C-6885CFD1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DD384-1212-4897-9002-FE5B5E61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6D921-21D6-4B4F-92D6-DB464D58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A418-9CA0-4CAC-AA05-32837718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2A6C3-3A4C-483F-9F78-935A6611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02E80-ED49-4DA3-A12A-B2265CDB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C7DAE-8970-4050-A5B3-B10AB3CF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044BB-D2AF-47E1-81A7-BFE1AEC1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8C298-638F-40EE-98F4-DC3327A7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9B7EE-F394-4DEF-88E7-A5A01522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A2890-7220-497D-B0D0-A5BD364B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C5179-2EBF-434C-B780-A08D7C78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2061C-3E9F-41F6-B116-D2037FF7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9DAE2-8D1B-46A3-B7DC-13BF5244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F74-5514-499C-B6A6-327B4F30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4A152-D079-4A9A-AE0F-A759C5EC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0B497-1B5B-469D-B8A8-2625E80F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C18AC-91C3-4C88-A22A-5AF849A0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E0505-F76D-4C8A-A0C2-5E0E800B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AC5E1-79FC-4EBA-9D09-6D1EEFC0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9F7B2-655C-4BCE-A16B-EB19197D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AC6AE-4B37-4D75-B4F5-535C7FEE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61952-6338-4227-924D-9A3262AB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0C720-4615-4A42-A0E0-EE39CB4F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79E7D-C396-4D40-AEC7-3AD92D16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96E-8BDE-498C-975C-B353E1B6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E0FB5-B298-45E9-B9AB-42DB6ED1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B93F2-BC25-42D6-8719-4BE789C6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7AB23-1AD6-4482-8E5A-29AAAAD7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5631A-3F35-4F96-A0F3-12023BB8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C4995-7D82-440A-91C4-D0B19682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692CB-FA55-4162-BF7D-1037AA40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C5567-B01F-48BC-AA15-19A1629D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0BD5D-4C01-4DE0-A8A9-C9F7D507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6796A-82D2-4613-BAD9-77A47702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439C7-B64D-4097-85FE-7BDADE4F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A01-0D8A-4695-9A87-E3887FF4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B9430-AC70-483B-8078-D233D3F1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9D2F0-7AC1-4082-919D-0A4B721A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F5B32-E355-4DB9-949B-405ED0BD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44C54-2B19-4A13-A49D-9573E391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00DD2-7D63-431F-A42C-742A2687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E25CC-B55B-4ABA-B4A0-9062B603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9A6BF-3892-4444-8CF1-65B41266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D117C-983E-468F-8328-853D8CD6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E70E0-6BF3-4B4E-8D1D-79C0BFED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C6496-2F2B-49BE-9CD1-7C44307D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43B-FA5E-4F21-9F61-A7A5C4B6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C4488-597F-4A2A-B586-C5879075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5BB4C-5A57-46A4-BCD8-E143CCE7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D3A21-053B-4C13-AC37-7C01E970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C4C4E-682E-4E29-9B8E-19E5213B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F45C4-0A91-446F-8D6D-D7712F58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0C6B8-F75D-4B4D-999D-DA09A59C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F9F46-6E9E-42CF-B069-7E585E1A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7E41B-96EC-47C5-B712-BEB632D2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2E9CD-E6F5-44E2-94BB-2BD0489C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E23D3-7A37-457D-A7C7-82AF66FA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E3E-B158-4599-96F3-4F75ADC4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4AFA4-94ED-4334-839E-24CE124B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FBC8D-EE26-43B1-971A-0066EA5D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6AED6-2095-4529-BC4C-FF93E12E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0F3B3-B359-4D40-8C9C-95B37AFA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E4278-F853-4242-B7B9-E8926512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CA63B-03ED-4F73-9D70-1561E6A2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23289-92B8-476F-A519-7EE490AE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4D243-5D05-4C5E-B0DB-4DD41B22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23387-E6A2-42E2-9DCD-32F26EC6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8282E-8DF5-4622-BEC2-36231EFA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C7D-0EAC-4FB4-A632-223971CD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B885B-D119-4562-8586-7E53F069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1D981-6B92-43C2-8B60-0733D532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6A654-09C6-4CA2-B0C3-251AF07C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60AD1-9B18-4304-9E76-CDCFBEF7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E3931-5D8C-43BF-B07D-50C21DA7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E7A0D-687D-4909-9441-AC7808FE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F4231-D5FE-4023-88DC-FEDB6472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63461-3D6B-4E9E-AE5F-5F50CCA1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F6426-F24E-4FEB-8E44-D52B2A61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F3F6A-ACE5-4ADF-8207-6123FD94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E85B-75D6-45AF-8FC7-0221AF06DCC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7737-F561-4C49-A509-1CDEE7F1F74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9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E09F-835E-4E8D-A0F4-1BA887C388F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E0D3-279B-4D48-AA35-940E484697A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9712-2CC1-4958-8279-4FC6DABFB21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4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A9AD-E323-432E-884C-68D19DB2AC9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8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ED02-418D-4281-82F0-C4377F11568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178D-4F99-405B-B3CC-CFBD95E4B3D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D147-5A4A-442D-8330-C1FD44577A6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2942-FEB9-4B9F-9FE1-F67EF9692FB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E60F-8D76-4F23-B46D-29AE9A9E962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CBDA-18CA-4DE0-B759-EC46DF4AA80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1EC6-C584-4F24-861D-45B1D7FCF06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B39A-900A-4C4C-82B7-29F329F6415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0882-C0F9-43A9-8AB8-D96C7AE841F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E208-C635-4364-AD4C-61A1B09B6B7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bionet-skola.com/w/Slika:Osmozaieritrociti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Rectangle 2" descr=""/>
          <p:cNvPicPr/>
          <p:nvPr/>
        </p:nvPicPr>
        <p:blipFill>
          <a:blip r:embed="rId1"/>
          <a:stretch/>
        </p:blipFill>
        <p:spPr>
          <a:xfrm>
            <a:off x="-1620720" y="1127160"/>
            <a:ext cx="8564400" cy="19209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4" descr="Animal Cells and the Membrane-Bound Nucleus"/>
          <p:cNvPicPr/>
          <p:nvPr/>
        </p:nvPicPr>
        <p:blipFill>
          <a:blip r:embed="rId2"/>
          <a:stretch/>
        </p:blipFill>
        <p:spPr>
          <a:xfrm>
            <a:off x="2556000" y="3130560"/>
            <a:ext cx="4968720" cy="37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r>
              <a:rPr b="1" lang="vi-VN" sz="5000" spc="-1" strike="noStrike">
                <a:solidFill>
                  <a:srgbClr val="04617b"/>
                </a:solidFill>
                <a:latin typeface="Arial"/>
              </a:rPr>
              <a:t>Prokaryotic cel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0" y="1916280"/>
            <a:ext cx="428472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cle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ead differentiated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embrane-bound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number of organel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ibosomes) in the 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3" name="Picture 6" descr="Prokaryotic Cell: Definition, Examples, &amp; Structure"/>
          <p:cNvPicPr/>
          <p:nvPr/>
        </p:nvPicPr>
        <p:blipFill>
          <a:blip r:embed="rId1"/>
          <a:stretch/>
        </p:blipFill>
        <p:spPr>
          <a:xfrm>
            <a:off x="4235400" y="1700280"/>
            <a:ext cx="4692600" cy="4332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Eukaryotic cel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179280" y="1557360"/>
            <a:ext cx="662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5" descr="Prokaryotic Cell - Definition, Examples &amp; Structure | Biology Dictionary"/>
          <p:cNvPicPr/>
          <p:nvPr/>
        </p:nvPicPr>
        <p:blipFill>
          <a:blip r:embed="rId1"/>
          <a:stretch/>
        </p:blipFill>
        <p:spPr>
          <a:xfrm>
            <a:off x="4284720" y="2276640"/>
            <a:ext cx="4610160" cy="3809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 AND PLANT CELL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8000" y="5229360"/>
            <a:ext cx="5148360" cy="13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elles pres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ly in a plant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9" name="Picture 7" descr="Plant vs. Animal Cells | Biology Dictionary"/>
          <p:cNvPicPr/>
          <p:nvPr/>
        </p:nvPicPr>
        <p:blipFill>
          <a:blip r:embed="rId1"/>
          <a:stretch/>
        </p:blipFill>
        <p:spPr>
          <a:xfrm>
            <a:off x="611280" y="1125360"/>
            <a:ext cx="7794360" cy="3780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811" name="Picture 5" descr="Cell Membrane Structure and Function - YouTube"/>
          <p:cNvPicPr/>
          <p:nvPr/>
        </p:nvPicPr>
        <p:blipFill>
          <a:blip r:embed="rId1"/>
          <a:stretch/>
        </p:blipFill>
        <p:spPr>
          <a:xfrm>
            <a:off x="539640" y="1989000"/>
            <a:ext cx="7380360" cy="4151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ipi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8000" y="1935000"/>
            <a:ext cx="562608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brane contai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spholipi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have 2 part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(polar) – hydrophil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il (non-polar) –hydrophob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facing each other wi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hydrophobic p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Glycolipi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Choleste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Rectangle 2"/>
          <p:cNvSpPr/>
          <p:nvPr/>
        </p:nvSpPr>
        <p:spPr>
          <a:xfrm>
            <a:off x="324000" y="5805360"/>
            <a:ext cx="77040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ids and proteins are constantly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7" descr="4.7: Eukaryotic Cells - The Plasma Membrane and the Cytoplasm - Biology  LibreTexts"/>
          <p:cNvPicPr/>
          <p:nvPr/>
        </p:nvPicPr>
        <p:blipFill>
          <a:blip r:embed="rId1"/>
          <a:stretch/>
        </p:blipFill>
        <p:spPr>
          <a:xfrm>
            <a:off x="5076720" y="2421000"/>
            <a:ext cx="4067280" cy="274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teins</a:t>
            </a:r>
            <a:br>
              <a:rPr sz="32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p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and channels - participate in the transport of molecules through the membra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18" name="Picture 6" descr="Protein Function | Learn Science at Scitable"/>
          <p:cNvPicPr/>
          <p:nvPr/>
        </p:nvPicPr>
        <p:blipFill>
          <a:blip r:embed="rId1"/>
          <a:stretch/>
        </p:blipFill>
        <p:spPr>
          <a:xfrm>
            <a:off x="755640" y="4221000"/>
            <a:ext cx="7989840" cy="2637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Membrane transport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39640" y="2468520"/>
            <a:ext cx="8229600" cy="34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assive transport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takes place without energy consumption, due to the difference in concentration on one and the other side of the membra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ctive transpor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takes place with energy, against the concentration gradi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asive trans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630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imple diffusion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transport through the membrane down the concentration gradient, until the concentrations are equalized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bstances soluble in lipids, gas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Osmosis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diffusion of water through the membrane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pposite to the concentration gradient (from lower to higher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Facilitated diffusion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transport of molecules through the membrane using carrier proteins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glucose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regulated by hormones (glucose-insulin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24" name="Picture 3" descr="300px-400px-Diffusion"/>
          <p:cNvPicPr/>
          <p:nvPr/>
        </p:nvPicPr>
        <p:blipFill>
          <a:blip r:embed="rId1">
            <a:lum contrast="60000"/>
          </a:blip>
          <a:srcRect l="0" t="0" r="0" b="19612"/>
          <a:stretch/>
        </p:blipFill>
        <p:spPr>
          <a:xfrm>
            <a:off x="6227640" y="1484280"/>
            <a:ext cx="2627280" cy="115272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5" descr="300px-Osmozaieritrociti">
            <a:hlinkClick r:id="rId2"/>
          </p:cNvPr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248520" y="3068640"/>
            <a:ext cx="2895480" cy="151452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6" descr="GB1-os19"/>
          <p:cNvPicPr/>
          <p:nvPr/>
        </p:nvPicPr>
        <p:blipFill>
          <a:blip r:embed="rId4">
            <a:lum contrast="6000"/>
          </a:blip>
          <a:srcRect l="0" t="21758" r="0" b="12803"/>
          <a:stretch/>
        </p:blipFill>
        <p:spPr>
          <a:xfrm>
            <a:off x="6180120" y="5281560"/>
            <a:ext cx="2963880" cy="1576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4537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dium-potassium pum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active transport of molecu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part with the lower to the part with the higher con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arrier protei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of energy (ATP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Rectangle 4"/>
          <p:cNvSpPr/>
          <p:nvPr/>
        </p:nvSpPr>
        <p:spPr>
          <a:xfrm>
            <a:off x="2286000" y="2558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7" descr="Sodium-Potassium pump which uses ATP to pump sodium ions out of the... |  Download Scientific Diagram"/>
          <p:cNvPicPr/>
          <p:nvPr/>
        </p:nvPicPr>
        <p:blipFill>
          <a:blip r:embed="rId1"/>
          <a:stretch/>
        </p:blipFill>
        <p:spPr>
          <a:xfrm>
            <a:off x="4716360" y="2133720"/>
            <a:ext cx="4176720" cy="417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ransport of large molecule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78120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ndocyt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hagocytosis, pinocytosis) - bringing molecules into the ce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ocyt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removing of undigested substances from the cell into the external environm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33" name="Picture 19" descr="image007"/>
          <p:cNvPicPr/>
          <p:nvPr/>
        </p:nvPicPr>
        <p:blipFill>
          <a:blip r:embed="rId1"/>
          <a:stretch/>
        </p:blipFill>
        <p:spPr>
          <a:xfrm>
            <a:off x="6372360" y="260280"/>
            <a:ext cx="2771640" cy="20829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24" descr="imag-endocistosis"/>
          <p:cNvPicPr/>
          <p:nvPr/>
        </p:nvPicPr>
        <p:blipFill>
          <a:blip r:embed="rId2"/>
          <a:stretch/>
        </p:blipFill>
        <p:spPr>
          <a:xfrm>
            <a:off x="6516720" y="4230720"/>
            <a:ext cx="2363760" cy="2627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ell is 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asic structural uni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all living organism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ell is 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mallest functional uni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can perform all life process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s the interior of the ce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tos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he part of the cytoplasm in which they are locatedcell organelles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YTOSOL + ORGANELES = CYTOPLAS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37" name="Picture 5" descr="Cell parts and their functions | Cells and organisms | Middle school  biology | Khan Academy - YouTube"/>
          <p:cNvPicPr/>
          <p:nvPr/>
        </p:nvPicPr>
        <p:blipFill>
          <a:blip r:embed="rId1"/>
          <a:stretch/>
        </p:blipFill>
        <p:spPr>
          <a:xfrm>
            <a:off x="2685960" y="4437000"/>
            <a:ext cx="4046760" cy="2276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9" name="Rectangle 2"/>
          <p:cNvSpPr/>
          <p:nvPr/>
        </p:nvSpPr>
        <p:spPr>
          <a:xfrm>
            <a:off x="250920" y="4581360"/>
            <a:ext cx="4824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s of eukaryotes (80S) consist of 2 subuni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(60S)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(4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0" y="1700280"/>
            <a:ext cx="608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prokaryotic and eukaryotic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role in protein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in the cytoplas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outer nuclear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membrane of the granular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7" descr="Structure Eukaryotic Ribosome 80S Ribosome Showing Smaller and Larger  Subunit Stock Illustration - Illustration of microscopic, anatomy: 200726002"/>
          <p:cNvPicPr/>
          <p:nvPr/>
        </p:nvPicPr>
        <p:blipFill>
          <a:blip r:embed="rId1"/>
          <a:srcRect l="0" t="-1313" r="0" b="29713"/>
          <a:stretch/>
        </p:blipFill>
        <p:spPr>
          <a:xfrm>
            <a:off x="5003640" y="3862440"/>
            <a:ext cx="3961080" cy="2995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OPLASMATIC RETICULUME - E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843" name="Object 3"/>
          <p:cNvGraphicFramePr/>
          <p:nvPr/>
        </p:nvGraphicFramePr>
        <p:xfrm>
          <a:off x="2050920" y="3068640"/>
          <a:ext cx="315288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068640"/>
                    <a:ext cx="315288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5" name="Rectangle 3"/>
          <p:cNvSpPr/>
          <p:nvPr/>
        </p:nvSpPr>
        <p:spPr>
          <a:xfrm>
            <a:off x="108000" y="1557360"/>
            <a:ext cx="345600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ouge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s 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"/>
          <p:cNvSpPr/>
          <p:nvPr/>
        </p:nvSpPr>
        <p:spPr>
          <a:xfrm>
            <a:off x="5364000" y="1413000"/>
            <a:ext cx="352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Smooth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 Е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, without 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of synthesis of lipids and steroid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connected to the Golgi appar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s a role in regulating the level of Ca in muscle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49636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4900" spc="-1" strike="noStrike">
                <a:solidFill>
                  <a:srgbClr val="000000"/>
                </a:solidFill>
                <a:latin typeface="Arial"/>
              </a:rPr>
              <a:t>olgi apparatus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8" name="Rectangle 3"/>
          <p:cNvSpPr/>
          <p:nvPr/>
        </p:nvSpPr>
        <p:spPr>
          <a:xfrm>
            <a:off x="324000" y="2133720"/>
            <a:ext cx="8064360" cy="41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ory 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developed in glandular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of membranes – cis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role in the modification and sorting of macromolec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12" descr="Molecular Expressions Cell Biology: The Golgi Apparatus"/>
          <p:cNvPicPr/>
          <p:nvPr/>
        </p:nvPicPr>
        <p:blipFill>
          <a:blip r:embed="rId1"/>
          <a:stretch/>
        </p:blipFill>
        <p:spPr>
          <a:xfrm>
            <a:off x="5888160" y="1700280"/>
            <a:ext cx="325584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4" name="Rectangle 3"/>
          <p:cNvSpPr/>
          <p:nvPr/>
        </p:nvSpPr>
        <p:spPr>
          <a:xfrm>
            <a:off x="0" y="2468520"/>
            <a:ext cx="442764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provi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ell 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ro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evel of wa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other substances in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"/>
          <p:cNvSpPr/>
          <p:nvPr/>
        </p:nvSpPr>
        <p:spPr>
          <a:xfrm>
            <a:off x="395280" y="1484280"/>
            <a:ext cx="3728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7" descr="Mitochondria: Form, function, and disease"/>
          <p:cNvPicPr/>
          <p:nvPr/>
        </p:nvPicPr>
        <p:blipFill>
          <a:blip r:embed="rId1"/>
          <a:stretch/>
        </p:blipFill>
        <p:spPr>
          <a:xfrm>
            <a:off x="4211640" y="1695600"/>
            <a:ext cx="4932360" cy="3730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ucle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5363640" y="2060640"/>
            <a:ext cx="4038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ar membra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plasm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romat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cleol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59" name="Picture 6" descr="Nucleus- Definition, Structure, Parts, Functions, Diagram"/>
          <p:cNvPicPr/>
          <p:nvPr/>
        </p:nvPicPr>
        <p:blipFill>
          <a:blip r:embed="rId1"/>
          <a:stretch/>
        </p:blipFill>
        <p:spPr>
          <a:xfrm>
            <a:off x="179280" y="1825560"/>
            <a:ext cx="5073840" cy="4105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210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elles present only in a plant cell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79280" y="2707920"/>
            <a:ext cx="89647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lipoprotein membrane and stro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osomes and circular DNA in the stro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 бит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 chloropla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tain chlorophyll- participate in photosynthesi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. chromopla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tain carotenoids, yellow and orange pigments- they give color to the leaves in autum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7cca62"/>
                </a:solidFill>
                <a:latin typeface="Arial"/>
              </a:rPr>
              <a:t>3. leukopla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ithout pigment- synthesize starch, fats, protei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63" name="Picture 6" descr="Plastids - Definition, Classification, Structure, Functions - GeeksforGeeks"/>
          <p:cNvPicPr/>
          <p:nvPr/>
        </p:nvPicPr>
        <p:blipFill>
          <a:blip r:embed="rId1"/>
          <a:stretch/>
        </p:blipFill>
        <p:spPr>
          <a:xfrm>
            <a:off x="5580000" y="836640"/>
            <a:ext cx="3203640" cy="190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79280" y="2420640"/>
            <a:ext cx="4321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ole membrane – tonopl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 sites of various metaboli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contain dissolved pig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66" name="Picture 6" descr="Molecular Expressions Cell Biology: Plant Cell Structure - Vacuoles"/>
          <p:cNvPicPr/>
          <p:nvPr/>
        </p:nvPicPr>
        <p:blipFill>
          <a:blip r:embed="rId1"/>
          <a:stretch/>
        </p:blipFill>
        <p:spPr>
          <a:xfrm>
            <a:off x="4606920" y="1773360"/>
            <a:ext cx="4537080" cy="4189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08000" y="234900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ulo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lamella (intercellular substanc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wall (cellulos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wall (when the cell stops growing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69" name="Picture 6" descr="Cell Wall - Definition, Cell Wall Function, Cell Wall Layers"/>
          <p:cNvPicPr/>
          <p:nvPr/>
        </p:nvPicPr>
        <p:blipFill>
          <a:blip r:embed="rId1"/>
          <a:stretch/>
        </p:blipFill>
        <p:spPr>
          <a:xfrm>
            <a:off x="539640" y="4714920"/>
            <a:ext cx="4287960" cy="214308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8" descr="Cell Wall: Definition, Structure, &amp; Functions with Diagram"/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529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 THEORY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organism is made up of one or more cell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the basic units of an organism's structure and function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created by the division of mother cell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iversity of the cells of an organism is the result of differences in: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organiza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structure of the cell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lements in the cell - biogenic elements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elements (O, C, H, N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elements (Fe, Mn, Cu...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Inorganic compound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792" name="Picture 4" descr="mini-2"/>
          <p:cNvPicPr/>
          <p:nvPr/>
        </p:nvPicPr>
        <p:blipFill>
          <a:blip r:embed="rId1"/>
          <a:stretch/>
        </p:blipFill>
        <p:spPr>
          <a:xfrm>
            <a:off x="9058320" y="382284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0701"/>
                </a:solidFill>
                <a:latin typeface="Arial"/>
              </a:rPr>
              <a:t>Wa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main component, makes up 50-95% of the cell's weight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water in the cell depends on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ctivities of the cell (tooth dentin 10% water) and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ag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water is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 solven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environment for metabolic reactions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regulation and osmoregulation</a:t>
            </a:r>
            <a:r>
              <a:rPr b="0" lang="en-US" sz="2400" spc="-1" strike="noStrike">
                <a:solidFill>
                  <a:srgbClr val="f9070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Inorganic salt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ons (chlorides, carbonates, phosphates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ions (K+, Na+, Ca2+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oluble precipitates in the cel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in wate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Organic compoun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539640" y="2636640"/>
            <a:ext cx="822960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bohydrates [sugars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pids [fats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cleic acids [DNA and RNA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types of cel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mplexity of the structure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476000" y="2923920"/>
            <a:ext cx="648972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karyotic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ukaryotic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4:06:49Z</dcterms:created>
  <dc:creator>User</dc:creator>
  <dc:description/>
  <dc:language>en-US</dc:language>
  <cp:lastModifiedBy>Korisnik</cp:lastModifiedBy>
  <dcterms:modified xsi:type="dcterms:W3CDTF">2022-10-03T12:45:18Z</dcterms:modified>
  <cp:revision>108</cp:revision>
  <dc:subject/>
  <dc:title>ĆELIJA</dc:title>
</cp:coreProperties>
</file>